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F8F-537B-4F1D-A9F6-3CC05D4C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0D4-781C-4B63-BE90-31801641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BC1-54B7-49A6-BDAD-F1555527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117-F631-4CF0-80F6-40275D6D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D9D9-2D31-49EB-9862-ABD52BF9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9D32-A064-4EF0-AD8A-521D68AA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D8F5-65B0-4CDA-BBEA-C996C4D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FD3D-1CA8-4FFD-B35C-2BF5487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A822-C239-40D7-99DB-2145C1A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B8C8-77E5-451D-845A-320B8236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583B-8EFF-4BDC-8731-9FBFE15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FD9-865B-42B3-AAC4-71C85B1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0ED1-BC76-41F0-B4D4-AAEB38CD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1BC8-E367-4958-B640-7775BD7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EEA6-099A-4D7D-B050-97E928FA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8FF9-EC88-4FE9-AC31-CFFE3EC2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E399-EB59-4A8E-B306-256285C2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4CE-20F3-4DA4-9F5E-EC52C4EF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C3F-3BFA-490D-95E8-ABA2044E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DCC-A6A2-42BF-A18E-33E3702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7F4-83DB-44EA-8908-C71A9DAD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954-7E89-4E95-AB9D-370C2AAA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334-3F11-4DF8-A434-96D153A9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15B-E53F-416D-937E-16C9E4A1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81B9-C68C-46DF-8030-CB1D4C44FC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DA4C-3429-449C-BDFA-E6A5C91FA4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0"/>
            <a:ext cx="6840720" cy="79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 suspiro del mo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del Rey Chico que perdió a Granad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año de cuatroci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venta y dos corr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rey Chico de Gran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dió el reino que ten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alióse de la ciu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 lunes a medio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ercado de caball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flor de la mor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madre lleva cons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la tiene compañía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ese Genil aba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l rey Chico se sal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estribos se han moj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ran de gran val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63640" y="0"/>
            <a:ext cx="4364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mostrar más su d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n el corazón 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aquesa áspera Alpujar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su jornada y v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una cuesta muy al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ranada se parecía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vió a mirar a Gran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Granada la famo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i consuelo y alegrí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to Albaic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i rica Alcaicer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hambra y Alij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ezquita de val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mis baños, huertas y rí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de olgar me solía!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0"/>
            <a:ext cx="56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¿quién os ha de mí apart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jamás yo os vería?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hora te estoy mira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lejos, ciudad m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s presto no te veré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ues ya de ti me part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rueda de la fortu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co es quien en ti f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ayer era rey famo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hoy no tengo cosa mía!”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empre el triste coraz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aba su cobar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estas palabras dic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desmayo se ca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ba su madre dela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8000" y="189000"/>
            <a:ext cx="4253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otra caballe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endo la gente par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eina se de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causa pregunt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que ella no lo sab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óle un moro vie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honesta cortes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u hijo mira a Gr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pena le afligí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do había l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 es que como muj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e con grande agon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que como caball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estado no defendía”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20:44Z</dcterms:created>
  <dc:creator> </dc:creator>
  <dc:description/>
  <dc:language>en-US</dc:language>
  <cp:lastModifiedBy>-</cp:lastModifiedBy>
  <dcterms:modified xsi:type="dcterms:W3CDTF">2008-10-06T23:30:30Z</dcterms:modified>
  <cp:revision>4</cp:revision>
  <dc:subject/>
  <dc:title>Diapositiva 1</dc:title>
</cp:coreProperties>
</file>